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AB05E-8A36-4118-9BF9-DA9B9072A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6 approaches you can use to establish an open conversation or communication with pa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the list.  Let’s look at each approach and discuss what it means and how we can use it in the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definition and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participants to provide other 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definition and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participants to provide other 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definition and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participants to provide other 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definition and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participants to provide other 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definition and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participants to provide other 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definition and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participants to provide other 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88D6-6ED6-4229-BEB7-AE87792FC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CBDB-09CD-4F08-817B-1D1161B98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1FE0-3E31-463B-8397-942F67BB3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5DED-D101-423F-9C7B-42E600586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614B8-A8CD-473A-AEBB-7436A4535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541CE-8994-47F8-B11F-9EE22FD74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22B18-C445-406C-B84A-9452A85BD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301A9-1E87-4894-AAB5-6C47E0734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7CAF8-83B2-4062-979F-5395FADFA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E77B4-68C4-4956-BA4F-260152905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E9DE8-4503-4366-B61C-5414FE2A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33DD-D941-4889-9A2F-9E417F6D8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5DA18-2D99-4349-9A25-9EFDCA87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AD0CD-CC2E-4A5E-B396-BA11DF99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A604D-F3AE-4CC1-9613-66AA8F47A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634B8-2996-458F-A624-65E86B764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689F5-D74F-4849-86AB-610F951F5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2FBD-5BC2-4850-92F5-21FFE6E82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BD5E-1E56-48F5-A3A3-0FF829F5B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41DA-72A2-49CF-B867-6577AD932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3189-9F9F-404C-9270-D2BC64C4F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EB1A-62C3-46DF-8637-1ADF993F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0C5E-3AB7-4027-B67E-E0EB1A9B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E1E7-73C6-4C86-8436-3E1CCEC7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157D0-AD9F-4BAB-972F-FE708751388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16009-4D95-4F46-99C7-C58FC8584D4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rocess for Communic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the goal and reason for the 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the aud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oose a communication approach that opens a two-way convers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x Approaches to Open Home-School Communic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ruc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5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llowin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5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ing for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5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5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lly exchan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5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ive liste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Instruc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ating and elabora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ing an explanation of how to help a student with a homework assig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Following up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inding and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ind parent about due date for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sking for Help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efinition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king for ass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king parent to share information about their child (strengths and nee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Reveal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ing information ope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ing parents of your class goals and expec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Informally Exchang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ing a reciprocal dialog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ing time to sit and chat with no formal agen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ctive Listen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ening and paying at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ly listening to a parent express their concerns, opinions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13:50:15Z</dcterms:created>
  <dc:creator>pgcps</dc:creator>
  <dc:description/>
  <dc:language>en-US</dc:language>
  <cp:lastModifiedBy>pgcps</cp:lastModifiedBy>
  <dcterms:modified xsi:type="dcterms:W3CDTF">2009-03-26T13:52:07Z</dcterms:modified>
  <cp:revision>1</cp:revision>
  <dc:subject/>
  <dc:title>Process for Communication</dc:title>
</cp:coreProperties>
</file>